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12D9-FAF9-4AB3-8A43-B1DC71DC1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A422-CAF6-48C9-BA1C-82A820C4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1230-237B-4E96-B026-9522F5DA0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8B7D-F707-44DC-8AF8-3B79F0110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BF8C-3144-4D2D-968C-5B9FA77E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D48D-2F73-462C-A6E4-2448C0AB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36D2-24D9-477E-A885-D0B30DEB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E5FA-59D9-47DF-8362-6814B9A7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4381-7FE1-4BBA-9E63-99E7C9CD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E62A-3E93-41CE-BE85-A6FAC1D3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E2A3-460F-40C3-93CF-54EC322D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5D0A-53CA-4CF5-83B0-DE5BA19E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33FB-33F6-4571-81D6-EDF7983931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9840" y="1219320"/>
            <a:ext cx="683316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R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pproxima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o RR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701"/>
                </a:solidFill>
                <a:latin typeface="Arial"/>
              </a:rPr>
              <a:t>(Rotterdam Study Exampl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3276720"/>
            <a:ext cx="7391520" cy="1600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14400" y="380880"/>
            <a:ext cx="7391520" cy="2895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58000" y="4800600"/>
            <a:ext cx="14479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14400" y="4876920"/>
            <a:ext cx="73915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6934320" cy="3610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14400" y="4191120"/>
            <a:ext cx="6934320" cy="1904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76720" y="4038480"/>
            <a:ext cx="20574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5257800"/>
            <a:ext cx="556272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6934320" cy="3000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143000" y="3505320"/>
            <a:ext cx="6934320" cy="1904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14600" y="4572000"/>
            <a:ext cx="556272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3276720"/>
            <a:ext cx="213336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143000" y="5334120"/>
            <a:ext cx="70102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086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467840" cy="4495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38080" y="4876920"/>
            <a:ext cx="7467840" cy="1600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858000" y="6248520"/>
            <a:ext cx="1371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467840" cy="3352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066680" y="3657600"/>
            <a:ext cx="7467840" cy="1600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086600" y="5029200"/>
            <a:ext cx="1371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066680" y="5257800"/>
            <a:ext cx="74678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915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934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162920" cy="2743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143000" y="3276720"/>
            <a:ext cx="71629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7010280" cy="4191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143000" y="4572000"/>
            <a:ext cx="70102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086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91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4114800"/>
            <a:ext cx="7391520" cy="1600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14400" y="609480"/>
            <a:ext cx="7391520" cy="3581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58000" y="5638680"/>
            <a:ext cx="14479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20:38Z</dcterms:modified>
  <cp:revision>216</cp:revision>
  <dc:subject/>
  <dc:title>Slide 1</dc:title>
</cp:coreProperties>
</file>